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B35-7A2A-4ECB-BD2F-CB4F2BC9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941-AD94-45E9-8C69-E16F21E5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66F-D55B-45BB-9A0B-C3170B1A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4DC-56C0-4888-ABDE-954E741A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C144-C230-45CE-BB5B-6FE65B89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9D08-7E82-44BA-A6A2-DC77032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1F9D-84EF-4AC2-ABB4-9CDD10A4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B57C-2817-4F88-90FB-EF0560E1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511E-4BCB-4315-8F06-5563B525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3CC3-0F73-4386-B38A-F0CD95A6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EE91-830D-453D-86EA-7D4CCA2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324-AF31-4AEA-A8D8-AA35604D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2C5B-F78D-4915-B01D-4B882DCF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DC8D-65C7-4738-BB4D-0999016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1D9A-50AD-45A0-9607-E90F5AD7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906D-3D99-417B-B91C-CC4AAD5B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6C45-461C-40AF-8051-EF429F12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7C0-18A8-4F7C-8F57-17482DB4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3D6-A8B8-4022-B7A4-D624F08B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F43-5DC0-4E00-8E7C-BA993E6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FFC-AE6B-4910-9987-F47833A7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20B-1BD7-45F7-9728-F99775F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681-D1B8-4657-8160-89C72C5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0E0-1E29-4BF5-B079-49FADBD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2370-B9DF-4161-8C4E-1F9E2B3A8C0E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ACB7-F9CC-4FDB-AEC4-FA812F2F11DE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ocs.google.com/View?docid=ddfgkm8n_20d4wd3n&amp;revision=_published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 - del.icio.us Session 1 of 2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ting going with del.icio.u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it is your turn to try del.icio.us.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ttp://del.icio.u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relevant links and post them on your isquad’s del.icio.us sit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You will now find useful and relevant sites for your iSquad job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opy the address and post them to your isquad del.icio.us sit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dd a description and notes and save i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heck that the link works.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e the instruction sheet link on http://del.icio.us/isquad  for assistanc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monstrate on the SmartBoard some of the bookmarks you add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 what types of bookmarks you might need in your role as an iSquad memb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l.icio.us Instruction Shee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social bookmarking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login and post to my school’s isquad del.icio.us accoun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ny times teachers want to share online resources with their studen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Using del.icio.us will let the iSquad members help their teachers and classmates find online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is social bookmarking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allows you to save website links on a websit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allows you to share your bookmarks with other people. This is helpful to a teacher who wants to point their students to a link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is also useful when collaborating with other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Using a social bookmarking site like del.icio.us allows you to see your bookmarks from any computer on the Internet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748040" cy="3284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Open a browser window and navigate to </a:t>
            </a:r>
            <a:r>
              <a:rPr b="0" lang="en-US" sz="2000" spc="-1" strike="noStrike" u="sng">
                <a:solidFill>
                  <a:srgbClr val="995421"/>
                </a:solidFill>
                <a:uFillTx/>
                <a:latin typeface="Arial"/>
                <a:hlinkClick r:id="rId2"/>
              </a:rPr>
              <a:t>http://del.icio.us</a:t>
            </a:r>
            <a:r>
              <a:rPr b="0" lang="en-US" sz="2000" spc="-1" strike="noStrike" u="sng">
                <a:solidFill>
                  <a:srgbClr val="212164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Click on the login link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077320" y="1981080"/>
            <a:ext cx="685800" cy="1600200"/>
            <a:chOff x="8077320" y="1981080"/>
            <a:chExt cx="685800" cy="1600200"/>
          </a:xfrm>
        </p:grpSpPr>
        <p:sp>
          <p:nvSpPr>
            <p:cNvPr id="107" name=""/>
            <p:cNvSpPr/>
            <p:nvPr/>
          </p:nvSpPr>
          <p:spPr>
            <a:xfrm flipH="1">
              <a:off x="8305920" y="1981080"/>
              <a:ext cx="457200" cy="1371600"/>
            </a:xfrm>
            <a:prstGeom prst="line">
              <a:avLst/>
            </a:prstGeom>
            <a:ln w="38160">
              <a:solidFill>
                <a:srgbClr val="e6233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7320" y="3352680"/>
              <a:ext cx="30456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267080" cy="2952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Type in the isquad username and password, and click “log in”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680" y="2209680"/>
            <a:ext cx="457200" cy="1371600"/>
          </a:xfrm>
          <a:prstGeom prst="line">
            <a:avLst/>
          </a:prstGeom>
          <a:ln w="38160">
            <a:solidFill>
              <a:srgbClr val="e623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3581280"/>
            <a:ext cx="76176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You post a link to the del.icio.us account by clicking on the “post” link at the top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In a new browser window, find a page that you want to save. Highlight the address and copy it. Paste it in the url text box and press save.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Give it a brief description, which becomes the title. More descriptions can be added in the Notes box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029200" y="1676520"/>
            <a:ext cx="3754440" cy="1495440"/>
            <a:chOff x="5029200" y="1676520"/>
            <a:chExt cx="3754440" cy="14954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0" r="1802" b="0"/>
            <a:stretch/>
          </p:blipFill>
          <p:spPr>
            <a:xfrm>
              <a:off x="5029200" y="2057400"/>
              <a:ext cx="37544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flipH="1">
              <a:off x="7238520" y="1676520"/>
              <a:ext cx="304920" cy="1066680"/>
            </a:xfrm>
            <a:prstGeom prst="line">
              <a:avLst/>
            </a:prstGeom>
            <a:ln w="19080">
              <a:solidFill>
                <a:srgbClr val="e6233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2743200"/>
              <a:ext cx="228600" cy="152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829040" y="388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29200" y="3352680"/>
            <a:ext cx="3733920" cy="914400"/>
            <a:chOff x="5029200" y="3352680"/>
            <a:chExt cx="3733920" cy="9144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rcRect l="0" t="0" r="0" b="12467"/>
            <a:stretch/>
          </p:blipFill>
          <p:spPr>
            <a:xfrm>
              <a:off x="5029200" y="3352680"/>
              <a:ext cx="3733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105520" y="4038480"/>
              <a:ext cx="31240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29200" y="4495680"/>
            <a:ext cx="3695760" cy="1981440"/>
            <a:chOff x="5029200" y="4495680"/>
            <a:chExt cx="3695760" cy="198144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029200" y="4495680"/>
              <a:ext cx="369576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105520" y="5562720"/>
              <a:ext cx="3276360" cy="685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6248520"/>
              <a:ext cx="38124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1216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Natuzzi</cp:lastModifiedBy>
  <dcterms:modified xsi:type="dcterms:W3CDTF">2007-02-03T17:12:40Z</dcterms:modified>
  <cp:revision>17</cp:revision>
  <dc:subject/>
  <dc:title>Workshop Title</dc:title>
</cp:coreProperties>
</file>